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D19-1331-49B0-B474-56E4C8DA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879-2103-4BC0-BC03-DC886DC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03C-D166-4AA0-9482-316DD523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CC7-3718-4EB6-9341-2EC7417D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101F-B59D-49AA-9B89-2D65603A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9E84-E32C-4184-A916-D5AAEB4F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9B10-C0AA-4CEA-AC6A-555A1BA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214F-AB1A-4893-8FEA-CCD73321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62F4-F4F7-431D-80F9-0D624E3C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D0C-AA72-4B03-8F5C-96737807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A2F7-C732-484E-9032-5E93FC7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528-CE9D-47E1-8FA7-4FA4A0C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7E6F-AF7F-4D26-8275-CE4CAAD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566-D2B6-498A-9E4E-17BF9E31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D350-FCB1-4CC2-A521-B31195E7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4984-8400-41E9-8D51-83857C1C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B0CA-9CC3-40D3-896D-8844A75C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5E2-BDC8-40D2-B379-793E6EE7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550-56B7-4391-BEE7-E5DEB700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83E-8188-4E9F-B102-CC647CA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4D1-D736-4540-98FF-6A58DE54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B21-9767-468C-A620-91BD62C1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93B-EA42-4E19-B498-7DA26206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DD5-C46C-427E-B32D-FE3AD9B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FD8-35D4-4FBD-9732-302549BB9E3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66C-3F48-470B-9639-55B0CAD9D58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nnys and Tori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pani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nish countri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nezue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x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pa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minican republi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i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s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j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eg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lon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fé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3280" y="2579760"/>
            <a:ext cx="38149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er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n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r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euatr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inc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i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ent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ch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ue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084640" y="1981080"/>
            <a:ext cx="293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fami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m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p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rman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rman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abuel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abuel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132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6:26Z</dcterms:created>
  <dc:creator>WSFCS Workstation</dc:creator>
  <dc:description/>
  <dc:language>en-US</dc:language>
  <cp:lastModifiedBy>WSFCS Workstation</cp:lastModifiedBy>
  <dcterms:modified xsi:type="dcterms:W3CDTF">2010-04-28T18:58:17Z</dcterms:modified>
  <cp:revision>3</cp:revision>
  <dc:subject/>
  <dc:title>Lennys and Torius</dc:title>
</cp:coreProperties>
</file>